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5182-40E7-49FD-B231-180A95D9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596C-CF61-42DF-91DD-30DFE00F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0B0A5-02D0-4036-BD22-1528A063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11B52-1EF3-4C26-82C6-4329905F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10DFB-5CDC-47E2-A965-E0E7B715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54F38-D25B-4D72-A089-B52CC940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46565-1D69-4D05-B761-FF7505B7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5E5B2-02FD-49FA-AA0D-20ED8D31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47E24-9771-4125-954B-6FE22241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A6DB5-9FFA-48C8-ADF0-71AD0FA0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BC764-81A3-4A87-A7CE-77FC6DC7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D21B6-6B1C-4045-8E24-50709B41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F557-DB84-4080-9C71-B1E86DC0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4E0A1-C7A9-4666-ADB0-C9C4078E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DFEFE-4385-4D0B-930A-AEDD3438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993EA-753F-4418-9FAE-C991CC6C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FC948-EE79-4D43-8178-1E7BE5BD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2EC21-40FB-461F-99A3-AA89B634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C2AC6-54F0-45E5-A32D-7AE284F2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0B54A-CB21-4FDC-A6A2-C7B67F98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3D005-0515-4CD2-B926-FD4372DD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267F2-DEC1-4D10-86F7-6C23134D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C8683-CFF2-421C-88FA-24E0E377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3EC4-160B-4597-B277-5DFFEA30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EFF0F-595C-4644-A4BE-C76915CD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3585-6957-42AA-8846-3B301087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89B6-2831-4655-A8B9-657D0E18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180F-0901-41C6-A4BD-644C05FD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4EE9-1A46-43DE-95E8-58D5F898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5FDB-E692-40BB-B3ED-AFD3BDB2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A5F3-BFDE-41E5-A9E0-6171FA4C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E795-57DB-4C25-B5D6-EE5179A4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9623-19DD-4053-AB9D-531CD61D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EC53-D816-42D9-891D-BFD1D98B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1544-DBF9-4FF7-9EF9-5A5FA417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4ED7-0CEB-4E33-ABAF-A5FF71F1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6ABB-BE60-4711-A316-C1112F41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CD70-D960-42E8-A27A-E73082EE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2ED04-8012-4FED-82A4-1860D2FC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021BC-2ABD-4CBF-A471-42B15716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2F225-E11A-46FA-884E-ADBB79F5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B62A1-7C18-4015-8EE4-9C304584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95A32-FD34-481C-BE6F-5B090DC1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2ED0-27B8-4798-A309-AF41F203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3EC76-9267-4F6C-B442-A698A3A3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06D42-C291-4494-8CE5-A9B742BF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5C934-B466-455B-8AAC-1A9D4A53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F7826-BAB9-458E-A210-4129D6B2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39093-2895-49D2-BD4D-C8A85D4C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CC86C-BF4E-4244-92BF-55294D93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F10C2-E397-43DF-922B-C221D514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A55F2-F035-449B-AE91-90DB86A1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5D726-46B9-4003-9FD6-62DDDDE4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38B41-B1E0-4130-881C-D35B6113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89FA-E566-4E99-BCF8-613613A9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956A4-B88B-473B-A25C-E1D8F1FB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5EE5F-8DAA-42B0-BEAC-A5B0248F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A179B-6A00-4C15-B46D-1AC955F7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036E0-45B0-4959-B9A5-E1F51EB3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11877-66A0-428C-8301-CCE85667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7AAC1-8529-410F-8382-E35E7809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C32BB-305A-41BC-8349-C5CFF141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03239-1935-4910-8E4B-CF9A81D6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11668-0F32-484F-B335-092727CE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18524-4F46-4775-AF05-9B8EEC572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287B-E8B6-4AB5-8E45-F47FCD2F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80087-1699-4077-B3F8-179C129A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72F55-59E8-4EB7-8AB3-C6D61D6F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B5F81-03BD-4D47-B2A0-68AB5E22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D5B94-0B0D-48EF-A78E-8E374BBD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D77E7-A5F5-4A2A-95B8-A2747263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A4140-E804-4DCC-8911-075C7B83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68C41-6FED-4E58-9E6A-EC638BD1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C609B-04C5-4902-8D09-75EC7F13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ED16B-5082-4070-A833-0654BFCD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DEDE9-F05F-4AC5-88C1-C7426398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D5B4-4F53-4CA5-8F75-30CCF0FA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27E8A-EACD-446E-8955-0525C04D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A98B5-F29C-451A-A479-325C6FBB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098CC-110D-42D0-A077-3964FC17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FC8AA-4D0A-447D-8BB5-8E6EB51A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2003F-6708-45C1-BF21-38C9ECC9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BD85E-3505-4CF5-9631-081CE2D0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3FEFF-96B8-46FC-9C40-43940C07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173B0-2E3B-44F6-AA62-511267FE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8BF3F-8A05-4696-B6B3-E452F990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CDE92-9852-462E-ABAC-B7EE184E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7497-A7EF-4E44-8710-88211395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5907D-31B5-4C41-86D0-96898CC6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A7BBF-6AA1-4E84-A8B4-22731A2F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A91D0-4C5F-47FF-9421-5D5B9E6F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8D88B-AC8A-4E25-82D2-DC931972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49633-A5ED-4CB2-9C29-0348AB19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CD960-2224-4DAC-817A-C3BB6D5E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E26DD-A893-433C-AC55-C4492489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F59AC-4F8D-4BEE-B86B-9CA232F9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A55C2-40EF-4FED-94A7-F7C7CFE5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D4E94-1692-4AEC-82DB-C601A885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4E43-9BF1-4117-B152-15C5988F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7B4BB-2707-4836-954F-43300303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D26A6-95C6-4755-B4F8-F2D41267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31989-9253-4218-9F34-05261158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04CB8-1100-4581-9CC9-9ED9A9DC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408B5-FCDB-4535-9CE8-2CB8F638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FFAF1-D55A-4CE6-AD1F-AEB01E38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B3C16-ED7B-431B-AEB3-4C6987AD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7C108-CB0C-4958-AFA4-E79AC936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4168F-1B91-4B5F-B7E4-247F2539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037C1-CF03-4C54-8C27-DB522C7E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F3F7-6495-405C-AA8E-AAD14736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1DB84-FA10-48E3-A947-F74A6D30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909AF-723B-492B-8002-8BBD9668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5C0F5-2BD3-441F-8BA7-47EFE42D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6B6C7-8316-4E8E-99CD-313AA888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4B520-14D8-46CD-A071-B619B892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110AB-1DAC-441A-AE07-7DFE3C3E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94F16-FBA2-4632-8018-35B798FD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FB98C-B654-4828-A3BF-16998414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24EB3-71D8-4ADE-959F-D62222F1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FF783-5205-403D-8C41-9AE1C50B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6198-0F28-43F0-AD2C-76FEF64AE5B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8EB7-0D13-4418-B7F2-7943ADEE3E6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0DB6-6050-49E7-B2B5-DE705A3294E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9473-58B8-4319-BDE4-020F364B83C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8C43-8374-4DAB-BEB5-382718B65F1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168D-6E8D-4586-87EC-E8D7F94F53E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34EC-9D81-4B98-8AA8-117BE9C2E04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439D-DE91-48F5-BDEC-B3F5A06EC03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7AA3-716D-4C34-A1F3-E5A6A4DFAF9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00DF-0F68-4D8C-91DE-B4B506EAA99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8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언제 한국에 오셨습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편지를 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음 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을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디음 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본에 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약속이 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언제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ㅂ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봤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난 주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서울에 왔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6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했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작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9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문을 읽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청소를 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에서 무엇을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누구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          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십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를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서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장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항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방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우안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언제 한국에 오셨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야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4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23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일에 왔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우안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한국에서 무엇을 하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회사에서 일합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오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mon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ay (date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회사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일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언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en; interogative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언제 왔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언제가 좋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생일이 언제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었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; suffix (ending) to make it p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보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보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았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먹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먹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었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였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오늘 아침에 병원에 갔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제 소설책을 읽었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작년에 해외 여행을 갔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숫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Figu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Sino Korean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1    2    3    4   5    6   7    8    9   10  100  1,000 10,000 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일 이 삼 사 오 육 칠 팔 구 십 백 천 만 억 조 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Original Korean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나 둘 셋 넷 다섯 여섯 일곱 여덟 아홉 열 스물 서른 마흔 쉬흔 예순 일흔 여든 아흔 백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일 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9/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3/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2/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6/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0/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오늘이 몇 월 며칠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일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7/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2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8/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1/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4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셨습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진을 찍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면을 잡수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전화를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1-26T01:14:27Z</dcterms:modified>
  <cp:revision>101</cp:revision>
  <dc:subject/>
  <dc:title>KOREAN LANGUAGE</dc:title>
</cp:coreProperties>
</file>